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032-3139-4F3E-81A6-314CB2075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CD5-1115-4B23-A4BC-CCEC54D8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F96-57FB-4488-814E-1956B334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A37-E344-48DC-9861-15C1DB45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53D0-703C-4921-B15B-1850B50E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FC4-4B79-4061-9F40-5DAAC778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F320-69E6-434B-9584-A5DC15C6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69F-8526-4801-A186-DF3A19E0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212-978C-41BD-A0E1-C0D65ED5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76F3-76FB-483D-9437-374C4799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D1E-E070-434C-A5D3-B7F48784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A4A-8CAD-47E1-B2DE-52F39290F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EF4-A68C-421C-A10D-B12034151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326D-7EF9-4D02-A9C7-63B1B651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6DC-FF7E-4C65-8623-BB7BC521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D1F-FE0E-43A6-A03E-00A75014A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8AD-6AC6-41BB-98BD-7FF01C6B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5D5-4256-4373-B04E-2D1B0465F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B9C-CD16-4A4B-AABC-B8FE448B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7D9-D9A8-45B3-ADE5-1B1F5ACA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E0C-7646-4510-ABD5-0DBA00B0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7FC3-2AE2-4DA5-8872-9C55FB0F7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B46-1347-447E-9B56-B03E45AA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5B5-B270-4AAB-A4E5-636711F5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1FD-D8DA-45E0-ADE3-C9821C16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D40-93EE-4C54-8645-3F228C9D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982-15DB-4017-8D7A-E2F8F568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A06D-E768-47F2-AC68-55FA8023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FB8-E410-414E-A16F-6CCEE539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306B-99C9-43D2-AAC6-FE44A6400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C57-2761-4E07-8736-780D8007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6F4-DF3D-4BCD-A394-4703EDF6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703C-8BEA-4051-8FCF-155A45886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59C-3FB2-48D8-8AB2-5949F64A5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3CC-28AB-44D8-AD60-8BC323CF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7B1-D645-4C12-B08D-45116E6B1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3972-A4BA-4F03-ABF3-59A9E4075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D7A8-A0A7-4C1B-B2F9-C8C58E94C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AD05-7022-47C8-B6A1-2D8D98E1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61C-BCF6-406B-A0D7-1B3008A3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6D57-2697-4E97-BE04-82B76056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BD5-F7AA-4B85-8801-982A52C8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3A6E-D1C7-4719-BA9D-3A00EAADF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0A5-6954-4898-8312-AABE2647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D91-C8F9-4465-95BC-0AD50F78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AE4D-A824-4502-A218-D6FA7636D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D40-3D61-431F-8718-25C8298B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524-9BF4-4A8B-92E1-54EC2976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24A-246B-469E-9D1F-3C67B205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6D67-1122-4714-BFF3-F5E42BB0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15F-C980-4CFF-9C2A-DFFF60B9D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5208-9120-4E6B-9F2C-771D47EE7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04B-8FD0-4983-84EE-F579660F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A6C-3576-409A-8ADB-36BEB57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2EB-C6BA-4595-8A1D-BB524A13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3E2-757D-4D83-A3E6-2A7A6AA9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843-95AC-4CF2-BD3A-80096BCC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42D-4F52-4ED2-AE9C-D7574C36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144-FAB5-404B-8D2E-AC8A0B9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832-5972-4B78-8414-C3F5DAF8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FD5-E930-48EA-8846-F162459F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19E-EA19-4E13-8C5E-D131ED9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355-4B13-4972-B224-AD3CA54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EB1-DE00-4A8F-ACCA-3A10D43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0A17-881D-4677-AA31-22890CC8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Th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it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ricul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amp; soci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act required goods to be shipped on British merchant vessel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avigation Ac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y experienced a “golden age” in the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entury in part due to an economy based on shipping and commer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utch Republic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elief that the universe functions like a quality clock and doesn’t require god’s interven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De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se English kings made up the buns of the Cromwell sandwich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are James I and James I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057" descr="lg_pp1934kingjamesi"/>
          <p:cNvPicPr/>
          <p:nvPr/>
        </p:nvPicPr>
        <p:blipFill>
          <a:blip r:embed="rId1"/>
          <a:stretch/>
        </p:blipFill>
        <p:spPr>
          <a:xfrm>
            <a:off x="2209680" y="3276720"/>
            <a:ext cx="2319480" cy="267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59" descr="james_2"/>
          <p:cNvPicPr/>
          <p:nvPr/>
        </p:nvPicPr>
        <p:blipFill>
          <a:blip r:embed="rId2"/>
          <a:stretch/>
        </p:blipFill>
        <p:spPr>
          <a:xfrm>
            <a:off x="4800600" y="3276720"/>
            <a:ext cx="236844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group of people in Eastern Europe successfully challenged the power of monarchs and increased serfdo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o are landlords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057" descr="a serf"/>
          <p:cNvPicPr/>
          <p:nvPr/>
        </p:nvPicPr>
        <p:blipFill>
          <a:blip r:embed="rId1"/>
          <a:stretch/>
        </p:blipFill>
        <p:spPr>
          <a:xfrm>
            <a:off x="5257800" y="2666880"/>
            <a:ext cx="142560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59" descr="Are you a landlord"/>
          <p:cNvPicPr/>
          <p:nvPr/>
        </p:nvPicPr>
        <p:blipFill>
          <a:blip r:embed="rId2"/>
          <a:stretch/>
        </p:blipFill>
        <p:spPr>
          <a:xfrm>
            <a:off x="1828800" y="3124080"/>
            <a:ext cx="2800440" cy="209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Nametwo ideas/events prepared England for the Industrial Revolutio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Events that promoted the sharing of enlightenment ideas while enjoy the fashion, literature and music of the age (women hosts prefered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4"/>
          <p:cNvSpPr/>
          <p:nvPr/>
        </p:nvSpPr>
        <p:spPr>
          <a:xfrm>
            <a:off x="762120" y="685800"/>
            <a:ext cx="784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a salon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Year the Martin Luther posted the 95 These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1517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33" descr="luther"/>
          <p:cNvPicPr/>
          <p:nvPr/>
        </p:nvPicPr>
        <p:blipFill>
          <a:blip r:embed="rId1"/>
          <a:stretch/>
        </p:blipFill>
        <p:spPr>
          <a:xfrm rot="180000">
            <a:off x="4038120" y="2666880"/>
            <a:ext cx="381024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7" descr="martin_luther_by_cranach"/>
          <p:cNvPicPr/>
          <p:nvPr/>
        </p:nvPicPr>
        <p:blipFill>
          <a:blip r:embed="rId2"/>
          <a:stretch/>
        </p:blipFill>
        <p:spPr>
          <a:xfrm>
            <a:off x="1143000" y="1981080"/>
            <a:ext cx="2946240" cy="419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embers of this order of priests are known for their education, vow of loyalty to the pope, and dedication to furthering the Catholic fai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the Jesuit orde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Jesuits.JPG (28847 bytes)"/>
          <p:cNvPicPr/>
          <p:nvPr/>
        </p:nvPicPr>
        <p:blipFill>
          <a:blip r:embed="rId1"/>
          <a:stretch/>
        </p:blipFill>
        <p:spPr>
          <a:xfrm>
            <a:off x="2362320" y="2971800"/>
            <a:ext cx="4343400" cy="32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his book, 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Institutes of the Christian Religion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, this religious theologian argued that God’s grace is bestowed on only the few who are predestined fo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o is John Calvin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[John Calvin]"/>
          <p:cNvPicPr/>
          <p:nvPr/>
        </p:nvPicPr>
        <p:blipFill>
          <a:blip r:embed="rId1"/>
          <a:stretch/>
        </p:blipFill>
        <p:spPr>
          <a:xfrm>
            <a:off x="2743200" y="2057400"/>
            <a:ext cx="35244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When the pope refused to annul his marriage to Katherine of Aragon, King Henry VIII of England started this form of Protestantism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Anglican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portrait9"/>
          <p:cNvPicPr/>
          <p:nvPr/>
        </p:nvPicPr>
        <p:blipFill>
          <a:blip r:embed="rId1"/>
          <a:stretch/>
        </p:blipFill>
        <p:spPr>
          <a:xfrm>
            <a:off x="2819520" y="1676520"/>
            <a:ext cx="3551040" cy="46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4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Putting-out, Agricultural revolution, Enclosure Ac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Henry of Navarre, born a Protestant, famously uttered these words before converting to Catholicism to promote peace in his realm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“Paris is well worth a mass”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two countries pioneered the Agricultural Revolution in Western Europe in the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nd 18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enturi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are the Netherlands and England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Primary factor leading to the population explosion of the 18</a:t>
            </a:r>
            <a:r>
              <a:rPr b="0" lang="en-US" sz="5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an increase in the food supply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MCj03312820000[1]"/>
          <p:cNvPicPr/>
          <p:nvPr/>
        </p:nvPicPr>
        <p:blipFill>
          <a:blip r:embed="rId1"/>
          <a:stretch/>
        </p:blipFill>
        <p:spPr>
          <a:xfrm>
            <a:off x="2895480" y="3581280"/>
            <a:ext cx="3183120" cy="252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Land left unplanted so that it can regain its fertility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the fallow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MPj04021120000[1]"/>
          <p:cNvPicPr/>
          <p:nvPr/>
        </p:nvPicPr>
        <p:blipFill>
          <a:blip r:embed="rId1"/>
          <a:stretch/>
        </p:blipFill>
        <p:spPr>
          <a:xfrm>
            <a:off x="2133720" y="2514600"/>
            <a:ext cx="4892400" cy="326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When future generations leave the family estate to create new residenc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neo-local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688 event that cemented Parliaments’ control in Eng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An English fencing movement, but not with sword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enclosur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2" descr="MPj04071810000[1]"/>
          <p:cNvPicPr/>
          <p:nvPr/>
        </p:nvPicPr>
        <p:blipFill>
          <a:blip r:embed="rId1"/>
          <a:stretch/>
        </p:blipFill>
        <p:spPr>
          <a:xfrm>
            <a:off x="2209680" y="2438280"/>
            <a:ext cx="4740480" cy="315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t movement shown bel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033" descr=""/>
          <p:cNvPicPr/>
          <p:nvPr/>
        </p:nvPicPr>
        <p:blipFill>
          <a:blip r:embed="rId1"/>
          <a:stretch/>
        </p:blipFill>
        <p:spPr>
          <a:xfrm>
            <a:off x="2190600" y="2438280"/>
            <a:ext cx="4762800" cy="349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4876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Baroqu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amous late Renaissance Brit who wrote plays and po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is William Shakespea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2762280" cy="440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tter writing “Father of Humanism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is Petrarch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43720" cy="395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0866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Palace that inspired countless others and served as Europe’s cultural cent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Versailles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2724120"/>
            <a:ext cx="2755800" cy="413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160800" y="2971800"/>
            <a:ext cx="473400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the Glorious Revolut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rovide three examples of Renaissance 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nswers will vary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ublished in 1776, this famous economic work discussed the ideas of rational self-interest in a free market econom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What is Adam Smith’s </a:t>
            </a:r>
            <a:r>
              <a:rPr b="0" i="1" lang="en-US" sz="6200" spc="-1" strike="noStrike">
                <a:solidFill>
                  <a:srgbClr val="000000"/>
                </a:solidFill>
                <a:latin typeface="Times New Roman"/>
              </a:rPr>
              <a:t>Wealth of Nations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105" descr="WealthNations"/>
          <p:cNvPicPr/>
          <p:nvPr/>
        </p:nvPicPr>
        <p:blipFill>
          <a:blip r:embed="rId1"/>
          <a:stretch/>
        </p:blipFill>
        <p:spPr>
          <a:xfrm>
            <a:off x="4952880" y="1066680"/>
            <a:ext cx="3581640" cy="428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demographer and political economist believed that population would eventually outrun the food suppl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o is Thomas Malthus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Kuenzi</cp:lastModifiedBy>
  <dcterms:modified xsi:type="dcterms:W3CDTF">2017-01-13T05:02:09Z</dcterms:modified>
  <cp:revision>46</cp:revision>
  <dc:subject/>
  <dc:title>No Slide Title</dc:title>
</cp:coreProperties>
</file>